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5179C2-C900-4701-A120-92C3A1EF8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33676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2525400"/>
            <a:ext cx="5607000" cy="5342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ЧЕМ ЖЕНЩИНАМ НУЖЕН НАСТАВНИ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ы извлекут больше пользы, если у них будет более опытная и компетентная наставн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ы встречаются с преградами, которые мешают им на пути овладения навыками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3372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2671920"/>
            <a:ext cx="5607000" cy="5487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НАСТАВ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альное наставничество. Формальное наставничество выгодно для третьей стороны и зачастую включает формальные соглашения между наставником и наставляемым. Формальное наставничество как правило осуществляется на рабочем месте или в ассоциации. Обычно ответственный координатор, который подбирает наставника и наставляемого, организует их обучение и семинары, и, как правило, наблюдает  за структурированной программой настав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формальное наставничество. Неформальное наставничество, когда двое людей вступают в наставнические отношения без помощи третьей стороны или подписания формального контракта. Эта форма наставничества обычно неструктурированна и зачастую возникает спонтанно между коллегами или друзьями, и развивается в наставнические отношения через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чество через малые группы. Наставничество через малые группы более четырех человек может быть вполне эффективно во многих ситуациях. Обычно малая группа создается в одной организации. Как у наставников, так и у наставляемых схожие цели. Вхождение в наставнические малые группы для наставляемых и наставников с различными профессиональными и личностными характеристиками может быть полез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ессиональное наставничество. Профессиональный наставник обладает личным опытом в области, в которой он наставляет, и комбинирует учительство и наставничество для того, чтобы добиться высокого уровня результатов от своих клиентов. Различное неформальное, формальное и наставничество через малые группы традиционно предоставляются бесплатно, а профессиональные наставники оценивают свой труд в соответствии с видом наставничества, опытом и репут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333520" y="47628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640" y="2379240"/>
            <a:ext cx="5526000" cy="5853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авнические отношения уникальны. У них три первоочередных цели, которые отличают их от других видов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помогают овладеть навыками и продвинуться в карьерном ро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омогают своим наставляемым овладеть знаниями, навыками и использовать возможность достигнуть цели, демонстрируют опыт взаимоотношений с другими профессионалами, поддерживают долгосрочные отношения и избирают возможности сотрудничества, которые помогут наставляемому расширить круг друзей среди профессион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содействуют духовному и психологическ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осуществляют квалифицированное сильное духовное руководство, поощряют попытки новых идей, содействуют развитию социальных связей, вдохновляют наставляемого и создают взаимоотношения единомышленников. Очень хороший пример наставника-насталяемого в Библии это пример Павла и Тимоф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оказывают содействие и улучшают качество жизни наставляем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омогают распределять время и расставлять акценты для сохранения баланса в жизни, способствуют развитию самоподдержки и других психологических стратегий совладания, поддерживающих здоровье и благополуч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260440" y="549360"/>
            <a:ext cx="2405160" cy="1803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7760" y="2450880"/>
            <a:ext cx="5607000" cy="6296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НАСТАВ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самых сложных компонентов наставнических отношений это поиск подходящей личности. Если вам нужен наставник, Ричард Боллес, профессионал в области профессиональной карьеры, предлагает составить список важных пунктов, которые помогут в вашем выборе – знания, навыки, личностные качества, опыт и т. д. – затем выбрать то, что у вас уже есть. И следующим шагом, найдите человека, который вам действительно поможет и станет вашим наставни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, множество психологов верят, что лучшие отношения происходят «естественно». Сначала вы начинаете обсуждать какие-то вопросы, затем дискуссий становится все больше, а затем вы понимаете, что у вас есть наставник. Но в действительности, совет психологов очень не прост. Вам необходимо сделать некоторую домашнюю работу. Обдумайте следующие руководящие указания, когда вы ищите наставн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айте себе вопрос: Что вы ожидаете от наставнических отнош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умайте о вашем личностном сти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ого типа человек поможет вам достичь больш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говорите с друзьями и коллегами о ваших наставни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просите у ваших друзей и коллег, может быть они знают о каком-то хорошем подходящем для вас наставн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мните, иногда наставником может быть человек, которого вы видите каждый день и работаете с 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удьте открыты к различным возможнос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учитесь определять тип людей, которые работают лучше с целями и нуждами, похожими на ваш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ишите вашему потенциальному наставнику, чего вы от него ожида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01280" y="620280"/>
            <a:ext cx="5607000" cy="797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помните наставников из вашего прошлого оп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, учитель или тренер, который особенно помог в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умайте о характерных чертах человека, которым вы восхищает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им знаниям и навыкам вы научились у этого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ьте позитив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 поиске наставника хорошо обдумывайте ваши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бойтесь просить то, что вам нуж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щите помощи у Бо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литесь, чтобы Бог направил вас к правильному челове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айте Богу знать о типе наставника, которого вы ищите – наставника с опытом в вашей области? Ваши родители руководили вами, когда вы были маленькими детьми? Должен ли слушатель внимать идеям о жизни, работе и личных цел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260440" y="476280"/>
            <a:ext cx="2502000" cy="1876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1280" y="2379240"/>
            <a:ext cx="5607000" cy="621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НЫЕ ЧЕРТЫ ХОРОШЕГО НАСТАВ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елает помогать и вдохновлять: люди, которые проявляют интерес и желают помогать другим. Они стремятся помочь другому человеку  раскрыть потенциал и обнаружить ресурсы и дары. Они вдохновляют других людей к великим вершинам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ят в ценность человека: Люди, которые ценят человека и помогают становлению самоуважения. Они верят, что каждый человек сотворен Богом. Очень ценно то, что Господь отдал Сына Своего умереть за каждого из н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рошая репутация для развития других людей: Опытные люди, которые обладают хорошей репутацией для помощи другим в развитии их навы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вящают время и энергию: Люди, которые посвящают время и умственные способности для развития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адают требуемыми знаниями: люди, которые обладают новейшими знаниями и/или навы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ированы на обучение: люди, которые желают и могут обучаться и видят потенциальную пользу от наставн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являют эффективные наставнические навыки: Люди, у которых есть тренерские, консультативные, руководящие и коммуникативные навы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21940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25320" y="2487600"/>
            <a:ext cx="5904000" cy="1944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едут здоровый образ жизни и совершают слу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бладают дарами слушания, одобрения, отражения чувств, общительности и молит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зращивание наставника в вас:  Опросник настав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Если вы интересуетесь, можете ли вы быть хорошим наставником? Ответьте на наши 15 коротких вопросов, которые автоматически предоставят вам ответы и обнаружат наставнические характеристики. Не задумывайтесь долго над вопросами, отвечайте, что первое приходит в голо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36600" y="4361040"/>
          <a:ext cx="6408720" cy="4454280"/>
        </p:xfrm>
        <a:graphic>
          <a:graphicData uri="http://schemas.openxmlformats.org/drawingml/2006/table">
            <a:tbl>
              <a:tblPr/>
              <a:tblGrid>
                <a:gridCol w="519120"/>
                <a:gridCol w="1036440"/>
                <a:gridCol w="443160"/>
                <a:gridCol w="44100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. Do you know what it’s like to have worries, frustrations and concerns about your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. Do people seek you out to talk about their worries, frustrations, and concer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. Is the amount of time you spend listening at least four times what you spend talk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. Has anyone in your life helped you uncover an aspect, ability or talent of yours that, until then, had lain dormant and unrecogn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. Has anyone provided you with a quote that had great meaning for you that influenced your thinking or behavior, and that you sometimes pass on other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. Has anyone provided you with an “aha!” experience that enabled you to pierce the core of meaning of some event, in someone, in something, or in yourself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7. Has anyone helped you gain knowledge about how things work? About how to get things don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. Has anyone encouraged you to find a way to deal with challenges in your life or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336600" y="4503600"/>
            <a:ext cx="6191280" cy="568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60-75 баллов, то у вас не только есть потенциал быть великим наставником, но, возможно, вы уже являетесь наставником для некоторы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45-59 баллов, вы действительно ценны и знаете, что такое быть наставником. Продолж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30-44 баллов, у вас есть определенный ресурс, который предоставляет вам возможности для наставн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ниже 29 баллов, то такие результаты могут говорить о том, что вы на самом деле заинтересованы в наставнических отношения. Пройдите подготовку и последующее изучение может помочь вам достичь ваших наставнических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луйста, обратите внимание на то, что опросник наставника не обладает какой-либо валидностью, он всего лишь является  полезным для самоизучения и освещает некоторые качества наставни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36600" y="326880"/>
          <a:ext cx="6235560" cy="4496040"/>
        </p:xfrm>
        <a:graphic>
          <a:graphicData uri="http://schemas.openxmlformats.org/drawingml/2006/table">
            <a:tbl>
              <a:tblPr/>
              <a:tblGrid>
                <a:gridCol w="576000"/>
                <a:gridCol w="935280"/>
                <a:gridCol w="504720"/>
                <a:gridCol w="42195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9. Has there ever been anyone in your life who had a profound positive effect on you, but you didn’t realize it until much later in your lif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. Has someone in your life provided just the right help to you at just the right tim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1. Has anyone in your life helped you to grow and deepen your character, moral or ethical integrity or gain a stronger commitment to your valu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2. Has anyone inspired you to shift the direction of your life in a constructive wa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3. Have you ever reached out to another person who was deeply in need and what you provided appeared to make a beneficial difference to that pers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4. Do other people reach out to you to assist them with important life or career decis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5. Have you ever had an experience where something that you observed, read, or experienced had a profound effect on your strengths and abiliti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332080" y="328680"/>
            <a:ext cx="2211480" cy="1658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746680" cy="629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цесс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существует единственно верного наставничества, но, по крайней мере, необходимо разработать план, который пригодится как наставнику, так и наставляемому. Для формального наставничества вполне достаточно, чтобы они договорились о времени для регулярных встреч или мероприятий, в которые они вовлечены. Наставляемая может перечислить свои ожидания, но и наставник и наставляемая должны быть гибк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менее формальном наставничестве наставник изыскивает возможности для привлечения наставляемой и руководит, когда это возмож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айне важно определить четкие цели для того, чтобы наилучшим образом выполнять ваши наставнические лидерские и преподавательские функции. Что наставляемый ожидает от наставнических отношений? Если цели установлены, то очень легко разработать программу, определить результативность и скорректировать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, например, вы хотите наставлять только что крещенного члена церкви, и ожидаете, что он станет хорошим руководителем, то вам необходимо поставить перед собой цели и подумать как их достичь. Возможно, первые несколько месяцев потребуются для изучения Библии в малой группе. Следующим шагом, вы можете вовлечь наставляемого в пение псалмов во время богослужения, помогая ему открыть свои дары и таланты. Для того, чтобы достичь цели, возможно, вам понадобится год или д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317680" y="549360"/>
            <a:ext cx="2210040" cy="1657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607000" cy="629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полезно регулярно оценивать наставляемого. Отведите время для того, чтобы исследовать как ваши взаимоотношения предоставляют возможности для роста и более эффективных рабочих результатов. Ниже приведены несколько пунктов, которые вы можете обсудить с вашим наставляем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увствуете ли вы, что раст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оцениваете ваш прогрес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чувствуете, я соответствую вашим ожидания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 уже начали открывать для себя таланты и дар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ой сфере необходимо уделять больше вним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опыт положителен и живителен для вас? Или он является чужерод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я еще могу вам помоч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ю ли я то, что вам необходимо для наставнических отнош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363760" y="620640"/>
            <a:ext cx="2114640" cy="15861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640" y="2231640"/>
            <a:ext cx="5673600" cy="6367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ай наставление мудрому, и он будет еще мудрее; научи правдивого, и он приумножит знание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Притчи</a:t>
            </a: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 9: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временном мире высоких технологий, стремительного увеличения знания и возрастающего стресса и давления жизни, наставничество является мощным способом для овладения различными навыками… личностными и профессиональными, которые необходимы для жизни и служения. По словам Джорджа Матью Адамса «Не существует человека самого по себе. Нас делают тысячи других людей. Каждый в той или иной степени оказывает влияние на нас, или, говоря одним словом, одобряет нас, и имеет отношение к нашему характеру и нашим мыслям, а также и к нашему успех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лянитесь назад на вашу жизнь. Когда вы готовились к выпускным экзаменам в школе, планировали ли вы, как будете строить вашу профессиональную карьеру? Когда вы приняли Христа и крестились в Церкви, знали ли вы каким будет ваш религиозный опыт? Открыли ли вы в себе несколько новых талантов, после того, как кто-то другой указал вам на них? Я полагаю, что большинство людей, которые стали успешными в любого рода руководстве или влиянии, ощутили на себе чье-то наставничество, даже если никто и не называл это наставниче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наставничества очевидно не нова. Она уходит корням к Древней Греции. Философы, такие как Сократ то и делали, что брали на себя роль наставника над молодыми людьми, которые проявляли огромный лидерский потенциал. В свою очередь их протеже соглашались продолжать наставнические отношения по отношению к своим студентам. Идея деления опытом с молодежью продолжалась и в Средние века родоначальниками теории руководства. Хозяева ремесленники принимали подающих надежды мастеровых с благодарностью, руководили ими во всех аспектах овладения мастерством. Другими словами, наставничество является трудом любви тех, кто хочет передать свои навыки и знания следующему поко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3372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2525400"/>
            <a:ext cx="5607000" cy="607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в наставнических отнош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для наставляемог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 наставничества, который ему не нуж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яще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нятная програм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ящее отно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333520" y="476280"/>
            <a:ext cx="2309760" cy="17319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607000" cy="6073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для наставник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винения только одной стор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ытые профессиональные границы, особенно в наставнических отношениях мужчина-женщ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еря расположения у тех людей, которые вас не одобряю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305080" y="695160"/>
            <a:ext cx="2601720" cy="195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280" y="2744280"/>
            <a:ext cx="5607000" cy="5854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ставничество потенциального руководителя ориентируется вперед в будущее и направлено на более эффективную работу или слу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«Насколько успешной будет ваша жизнь зависит от вашего участия в жизни молодых, сострадания к пожилым, сочувствия к страдающим и терпения к слабым и сильным. Потому что однажды вы все это на себе испытаете», Джордж Вашингтон Карв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281320" y="549360"/>
            <a:ext cx="2501640" cy="18763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2601720"/>
            <a:ext cx="5607000" cy="607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Вебстера дает следующее определение слову наставник «верный советник и путеводитель». Он также ссылается на слова «учитель и инструктор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сатель Ричард Тайер говорит: «Наставничество является мозгом, чтобы отбирать; плечами, чтобы плакать; толчком, двигающим в нужном направлен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аксвелл, опытный пастор и наставник из Австралии, определяет наставничество как «динамические отношения доверия, в которых один человек помогает другому максимизировать благодать Божью в его жизни и служен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328840" y="69516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280" y="2671560"/>
            <a:ext cx="5607000" cy="5927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НАСТАВНИЧЕСТВО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авничество это совместные и обучающие взаимоотношения между более опытным человеком и менее опытным. Наставник оказывает поддержку, одобрение и совет другому, учитывая знания и опыт жизни обоих как наставника, так и наставляем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бный двухсторонний обучающий опыт для обоих: наставника и наставляемого, дает глубокое удовлетворение и множество пользы в личностной, профессиональной, организационной и развивающей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292480" y="549360"/>
            <a:ext cx="2698560" cy="20239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48880" y="2671560"/>
            <a:ext cx="5746680" cy="6624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ЧЕСТВО В БИБЛ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исание говорит о важности и необходимости духовного наставничества, помощи и обучения молодых женщин на их пути к Богу. В наши дни многие пришедшие ко Христу, возможно, не воспитывались в христианских семьях. Возможно, у них были родители, которые являлись номинальными христианами, но не являли пример Христа в своей жизни. Эти молодые христианки нуждаются в божественной модели руководства в своем религиозном опыте. Давайте прочитаем определяющий текст Титу 2:1-7, где апостол Павел дает наставления молодому пастору Титу по различным аспектам пасторской рабо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же говори то, что сообразно с здравым учением: чтобы старцы были бдительны, степенны, целомудренны, здравы в вере, в любви, в терпении; чтобы старицы также одевались прилично святым, не были клеветницы, не порабощались пьянству, учили добру; чтобы вразумляли молодых любить мужей, любить детей, быть целомудренными, чистыми, попечительными о доме, добрыми, покорными своим мужьям, да не порицается слово Божие. Юношей также увещевай быть целомудренными. Во всем показывай в себе образец добрых дел, в учительстве чистоту, степенность, неповрежд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вел являлся удивительным наставником Тимофея. У Павла и Тимофея были близкие отношения. Молодой Тимофей сопровождал Павла в нескольких миссионерских путешествиях и доверял его наставничеству как самому себе. Павел учил и поддерживал Тимофея, помогая стать «человеком Божьим». В своем втором письме он советует Тимофею как встречаться с жестокой реальностью жизни, а также познавать радости жизни, так как эти навыки дадут возможность ему упорно добиваться цели среди ничтожности веры, которая ожидала ег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01280" y="476280"/>
            <a:ext cx="5607000" cy="8123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Руфи рассказывает нам о Ноемини как об эффективном наставнике. Что мы можем точно сказать, там это то, что Ноеминь проявила огромный интерес и воспитала Руфь, свою невестку, находясь все время рядом. Ноеминь рассказывала ей о Боге Израиля и проявляла христианский характер в действии. Она посоветовала Руфи, где собирать колосья (Руфь 2:23) и также как понравиться Возу (Руфь 3:1-4). Ноеминь наставляла молодую Руфь быть твердой в своей вере в Бога, и Руфь вошла в родословную Иисуса Хр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37492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2451240"/>
            <a:ext cx="5607000" cy="6148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ОВАНИЕ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лбрейд и Кохен, сотрудничая со своими студентами и слушателями, обнаружили, что польза наставничества не только в совместной работе, она также может и в том, что наставничество может расширить знания о культуре и эстетике и раскрыть потенциал, который поможет жить полноценной жизнью (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оих исследованиях наставничества Шарон Фейман-Нетсер обнаружила, что наставничество может помочь преподавателю разработать методы для продолжающегося усовершенствования и преобразования (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84480" y="549360"/>
            <a:ext cx="2403360" cy="1803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2450880"/>
            <a:ext cx="5607000" cy="5854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ое лонгитюдное изучение здоровья молодых людей Университета Иллинойс, штата Чикаго, показало, что если у подростков есть наставник, 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большей вероятностью они закончат школу, поступят в университет и будут работать, по крайней мере, 10 часов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меньше вероятностью они станут членами преступной банды и применят физическое насил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09700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1280" y="2598480"/>
            <a:ext cx="5607000" cy="5489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их будет наблюдаться высокий уровень самооценки и удовлетворенности жизнью, и более высокий уровень физиче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665-DCD6-4C13-9DBB-542F3FE3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D13-3C3E-45E2-B690-3DA35E0F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E973-D33C-4D05-9068-BB34DDDC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053-410D-4348-86FE-59C06A8D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B91-D738-4BBE-9EF5-45F134F7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6A4-B0B0-498E-9E71-9B15255F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DF93-1A0A-43C0-8561-041AAB74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308-3054-49EC-A7F8-33C57121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4949-1A4B-4AC7-B46E-6857A1DF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833-7B68-46A7-87F8-000C3940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E221-8B49-4762-B15E-16EAD079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575-A171-4C34-A98D-786251BA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57F3-5B09-4F91-9EDA-D6C1E60C7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50760" y="485640"/>
            <a:ext cx="578196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Dauphin"/>
              </a:rPr>
              <a:t>Женщин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Cornerstone"/>
              </a:rPr>
              <a:t>наставляю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Dauphin"/>
              </a:rPr>
              <a:t>женщи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9000" y="3589200"/>
            <a:ext cx="285552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Dauphin"/>
              </a:rPr>
              <a:t>Подготов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Dauphin"/>
              </a:rPr>
              <a:t>Линдой Мей К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92360" y="4869000"/>
            <a:ext cx="1008000" cy="688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80920" y="5589720"/>
            <a:ext cx="289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pyrus"/>
              </a:rPr>
              <a:t>Генеральная конфе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pyrus"/>
              </a:rPr>
              <a:t>Отдел Женского слу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Dauphin"/>
              </a:rPr>
              <a:t>Why do Women Need MENTO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239184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щины извлекут больше пользы, если у них будет более опытная и компетентная настав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щины встречаются с преградами, которые мешают им на пути овладения навыками руково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Зачем женщинам нужен наста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46280" y="2176560"/>
            <a:ext cx="771336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орм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форм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ставничество через малые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фессион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Виды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280" y="1926720"/>
            <a:ext cx="7643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помогают овладеть навыками и продвинуться в карьерном ро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содействуют духовному и психологическому развит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оказывают содействие и улучшают качество жизни наставляе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Цели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88480" y="1926720"/>
            <a:ext cx="6923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го вы ожидаете от наставнических отнош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помните наставников из вашего прошлого опы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удьте позити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щите помощи у Б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Поиск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6200" y="1988640"/>
            <a:ext cx="7921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елает помогать и вдохновля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рят в ценность челове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рошая репутация для развития других люд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вящают время и энерг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ладают требуемыми знани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тивированы на обу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являют эффективные наставнические навы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Характерные черты хорошего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773360"/>
            <a:ext cx="8353440" cy="7128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дут здоровый образ жизни и совершают слу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ладают дарами слушания, одобрения, отражения чувств, общительности и молитв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Характерные черты хорошего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844640"/>
            <a:ext cx="835344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Dauphin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говоритесь о времени для регулярных встреч и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ставляемая может перечислить свои ожи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Dauphin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айне важно определить четкие цели для того, чтобы наилучшим образом выполнять ваши наставнические лидерские и преподавательские функции. Что наставляемый ожидает от наставнических отнош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46040" y="556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оцесс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Dauphin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полезно регулярно оценивать наставляем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дите время для того, чтобы исследовать как ваши взаимоотношения предоставляют возможности для роста и более эффективных рабочи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оцесс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4920" y="134028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ай наставление мудрому, и он будет еще мудрее; научи правдивого, и он приумножит зна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Притчи 9: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88480" y="178272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Dauphin"/>
              </a:rPr>
              <a:t>1.</a:t>
            </a:r>
            <a:r>
              <a:rPr b="1" lang="ru-RU" sz="3200" spc="-1" strike="noStrike">
                <a:solidFill>
                  <a:srgbClr val="333399"/>
                </a:solidFill>
                <a:latin typeface="Dauphin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епятствия для наставляем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ид наставничества, который ему не ну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дходяще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нятн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дходящее отно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епятствия в наставнических отнош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4120" y="192672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Dauphin"/>
              </a:rPr>
              <a:t>2.</a:t>
            </a:r>
            <a:r>
              <a:rPr b="1" lang="ru-RU" sz="3200" spc="-1" strike="noStrike">
                <a:solidFill>
                  <a:srgbClr val="333399"/>
                </a:solidFill>
                <a:latin typeface="Dauphi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пятствия для наставни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винения только одной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ытые профессиональные границы, особенно в наставнических отношениях мужчина-женщ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еря расположения у тех людей, которые вас не одобря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епятствия в наставнических отнош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8760" y="836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асколько успешной будет ваша жизнь зависит от вашего участия в жизни молодых, сострадания к пожилым, сочувствия к страдающим и терпения к слабым и сильным. Потому что однажды вы все это на себе испытаете», Джордж Вашингтон Карв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42920" y="184464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ый советник и путев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авничество является мозгом, чтобы отбирать; плечами, чтобы плакать; толчком, двигающим в нужном направ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отношения доверия, в которых один человек помогает другому максимизировать благодать Божью в его жизни и слу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Определение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68120" y="135108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ставничество это совместные и обучающие взаимоотношения между более опытным человеком и менее опытным. Наставник оказывает поддержку, одобрение и совет другому, учитывая знания и опыт жизни обоих как наставника, так и наставляем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обный двухсторонний обучающий опыт для обоих: наставника и наставляемого, дает глубокое удовлетворение и множество пользы в личностной, профессиональной, организационной и развивающей сферах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Что такое наставничество</a:t>
            </a:r>
            <a:r>
              <a:rPr b="1" lang="en-US" sz="4400" spc="-1" strike="noStrike">
                <a:solidFill>
                  <a:srgbClr val="333399"/>
                </a:solidFill>
                <a:latin typeface="Dauphi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4920" y="1196640"/>
            <a:ext cx="7596360" cy="7128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исус Христос наставил 12 апост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вел наставлял Тимоф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оеминь наставляла Руф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Наставничество в Биб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лбрейд и Кохен, сотрудничая со своими студентами и слушателями, обнаружили, что польза наставничества не только в совместной работе, она также может и в том, что наставничество может расширить знания о культуре и эстетике и раскрыть потенциал, который поможет жить полноценной жизнью 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своих исследованиях наставничества Шарон Фейман-Нетсер обнаружила, что наставничество может помочь преподавателю разработать методы для продолжающегося усовершенствования и преобразования (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39528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Исследование наставничества</a:t>
            </a:r>
            <a:r>
              <a:rPr b="0" lang="en-US" sz="4400" spc="-1" strike="noStrike">
                <a:solidFill>
                  <a:srgbClr val="333399"/>
                </a:solidFill>
                <a:latin typeface="Dauphi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4920" y="134028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9635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большей вероятностью они закончат школу, поступят в университет и будут работать, по крайней мере, 10 часов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еньше вероятностью они станут членами преступной банды и применят физическое насил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Dauphin"/>
              </a:rPr>
              <a:t>Национальное лонгитюдное изучение здоровья молодых людей Университета Иллинойс, штата Чикаго, показало, что если у подростков есть наставник, т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Dauphin"/>
              </a:rPr>
              <a:t>The National Longitudinal Study of Adolescent Health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3640" y="2608200"/>
            <a:ext cx="61196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них будет наблюдаться высокий уровень самооценки и удовлетворенности жизнью, и более высокий уровень физическ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701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Dauphin"/>
              </a:rPr>
              <a:t>продол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5:38:23Z</dcterms:created>
  <dc:creator>ArraisR</dc:creator>
  <dc:description/>
  <dc:language>en-US</dc:language>
  <cp:lastModifiedBy>Irina Romashkina</cp:lastModifiedBy>
  <dcterms:modified xsi:type="dcterms:W3CDTF">2008-01-21T17:46:18Z</dcterms:modified>
  <cp:revision>51</cp:revision>
  <dc:subject/>
  <dc:title>Slide 1</dc:title>
</cp:coreProperties>
</file>